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4ACD-F51F-4F59-B1A0-E4D34A0209E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304-FB19-4251-B608-F1A79267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243-C0A2-4FEE-ACD1-35914573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379-5764-438C-8092-7EF3350E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0223-BE1D-4F47-937A-CDC6FF63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812-2022-42CA-91CF-A80B80A0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3C7-B73A-40EC-BC01-BF74CCFC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896-5E58-48A2-A229-01BD58A0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2B5-888B-4C45-8EBA-F3FD0AF0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BFC-71A6-455B-B3E1-35FC4A01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4C8-4630-4065-B872-EBD0FEE9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72F-B723-44E5-B623-A2B99F50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DEF-B899-4303-BC3C-C2CAFA07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1308-9CD2-42A5-BDA1-3EA5E93AA6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4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182880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re they talking ab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20040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ir plan for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8680" y="1397160"/>
            <a:ext cx="117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371600"/>
            <a:ext cx="624816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____ we buy some 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nd chips t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I think that’s 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Sure! And we’d 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ake our hats. The S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s bu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5760" y="3530520"/>
            <a:ext cx="1348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1143000"/>
            <a:ext cx="151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2840" y="1981080"/>
            <a:ext cx="33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River N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8320" y="2666880"/>
            <a:ext cx="173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560" y="3581280"/>
            <a:ext cx="347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High D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5640" y="4572000"/>
            <a:ext cx="47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Abu Simbel T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371600"/>
            <a:ext cx="56390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hat’s the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tween the High 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nd Abu Simbel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86200"/>
            <a:ext cx="5562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main id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whole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05120" y="838080"/>
            <a:ext cx="6172200" cy="505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560" y="3352680"/>
            <a:ext cx="461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Abu Simbel Temple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n the edge of the Hi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D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121932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hat’s the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tween the High 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nd Abu Simbel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28800" y="35053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building of the Aswan High D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44792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main id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whole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1080" y="1752480"/>
            <a:ext cx="4191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Narrow"/>
                <a:ea typeface=""/>
              </a:rPr>
              <a:t>Why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was the 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Dam buil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16765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floo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large are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destroy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houses &amp; crop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control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ru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regular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produc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electric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590920"/>
            <a:ext cx="525780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built fo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1. controlling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f the Ni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2. producing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1430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Why was the High Dam buil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7920" y="28954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are talking about the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lan for their tri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1447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are they talking ab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717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1447920"/>
            <a:ext cx="6477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dam, which is the biggest in the world, is _____ metres lo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t is ___ metres wide at the base and ___metres wide at the top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lake that has been made by the dam is about ___ kilometres l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120" y="200988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,8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0160" y="25336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9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70520" y="31431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08440" y="42102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22600" y="1368360"/>
            <a:ext cx="29239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re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57400" y="2133720"/>
            <a:ext cx="449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rise by 63 metr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mov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date fro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be in da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33480" y="1371600"/>
            <a:ext cx="577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were the proble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133720"/>
            <a:ext cx="52290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problems we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1. to move lots of peo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n this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temples there 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n da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600200" y="1371600"/>
          <a:ext cx="3048120" cy="20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30481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800600" y="1371600"/>
          <a:ext cx="3048120" cy="1981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371600"/>
                    <a:ext cx="3048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00600" y="3657600"/>
          <a:ext cx="3124080" cy="1892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657600"/>
                    <a:ext cx="31240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676520" y="3657600"/>
          <a:ext cx="2971800" cy="1905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657600"/>
                    <a:ext cx="2971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505320" y="1676520"/>
            <a:ext cx="290808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447920" y="1066680"/>
          <a:ext cx="6248160" cy="4367160"/>
        </p:xfrm>
        <a:graphic>
          <a:graphicData uri="http://schemas.openxmlformats.org/drawingml/2006/table">
            <a:tbl>
              <a:tblPr/>
              <a:tblGrid>
                <a:gridCol w="1989000"/>
                <a:gridCol w="2200320"/>
                <a:gridCol w="2058840"/>
              </a:tblGrid>
              <a:tr h="620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l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son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792760" y="121932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an-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40480" y="1927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iver N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1720" y="2666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2760" y="327672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360" y="40384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648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ve people &amp;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560" y="1219320"/>
            <a:ext cx="422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pic sentenc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4290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in the middle of the paragrap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2096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 the beginning of the paragrap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648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at the end of the para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15238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14600"/>
            <a:ext cx="655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P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90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 Ex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8160" y="111600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86440" y="3657600"/>
            <a:ext cx="576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 to search fo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 the Three Gorges 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4120" y="2790720"/>
            <a:ext cx="59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are going to go boat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n the River Nile, and then g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or a walk round Asw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3716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ir plan for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1219320"/>
            <a:ext cx="60199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r. Whi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visit the city of Asw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take a boat to the tem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go for a walk round Aswan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182880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rs. White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do some sh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1828800"/>
            <a:ext cx="51051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Pipp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a boat on the Nile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08040" y="177336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54100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ob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 visit the High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76520" y="1600200"/>
            <a:ext cx="594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shall we do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ybe we could visit…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'd prefer/like to visit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n't we visit…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'd better take…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0200" y="1219320"/>
            <a:ext cx="61722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Where _____we eat o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Maybe we  ______  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 restaurant near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I’d ____ to have a picn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6600" y="1219320"/>
            <a:ext cx="109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31000" y="2514600"/>
            <a:ext cx="124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4572000"/>
            <a:ext cx="89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04:02Z</dcterms:created>
  <dc:creator>GuoMei</dc:creator>
  <dc:description/>
  <dc:language>en-US</dc:language>
  <cp:lastModifiedBy>潘雪蓉</cp:lastModifiedBy>
  <dcterms:modified xsi:type="dcterms:W3CDTF">2003-06-03T02:22:11Z</dcterms:modified>
  <cp:revision>389</cp:revision>
  <dc:subject/>
  <dc:title>PowerPoint 演示文稿</dc:title>
</cp:coreProperties>
</file>